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191-26F6-4ABC-B849-E9F26573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742-F766-4E91-8410-41D6A488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B77-7FC4-43B6-83B9-6CD75ADF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1BD-8EDB-438C-8DED-57DEC916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7CBE-94DB-44DB-83F8-5FF5D2B0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B511-AE47-4D66-9549-4520CE09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4A48-9572-4990-84E2-F5697E3B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A08-2AA3-44D2-B282-0235640F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6709-3F19-4C14-8881-75E7225C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1D4E-5F74-4D64-BAFF-D1B64921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9A99-8484-4444-9BD7-E4338EC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328-7A7A-4AB1-B7BC-494F7878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FBCD-6C85-4966-87A1-6FA26D30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9EBC-FB3D-4760-A30C-A68C806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DE7D-475D-4DE4-A677-1A916113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E782-96BA-4903-93E9-DE332903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1953-3B8E-4C78-A88F-D2A6644D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52A-E654-41E3-8AAC-EE786304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EC1-0522-4BB6-838D-6AFE131F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7D9-7EEE-490A-BEFC-E244F25D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0FC-3F17-4C0C-B93E-4A9AC86A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E20-6508-48B4-A773-115E00B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09C-51AA-4E15-AC0E-70F683DA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58C-0755-4033-8EE3-F574E96D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668A-0154-40A6-9323-F5D28C300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E2CA-4AF9-483A-AA22-726818C22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2215080" y="126216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187280" y="2492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e N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er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06864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al blood pressure - the force exerted by the blood on the unit surface area of the artery wal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Hg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moves through the system of blood vessels under the influence of the pressure with which the heart, like a pump, pushes blood into th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highest in the aorta and decreases to the arterioles and capillaries, while in the large veins it is almost equal to zero (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factors that affect the value of arterial blood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al activity of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ntric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se performance is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RESISTANCE to blood flow (P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specially resistance in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A normal amount of blood in the circulatory system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836280"/>
            <a:ext cx="7377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echanical capacity of the he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amount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nerve vasoconstrictor tone of arterio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blood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hange in any factor leads to changes in TA (hypotension / hyperten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6880" y="428400"/>
            <a:ext cx="73771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iastolic and systolic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lood pressure value that occurs in the arteries during systole, when the stroke volume is ejected from the left ventricle into the circulation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over the brachial artery during blood pressure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value of blood pressure in the arteries during diastole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brachial art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crease in diastolic pressure is (almost) always due to an increase in P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57120" y="1143000"/>
          <a:ext cx="8215560" cy="444168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d pressure classification for adults (18 years and ol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973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f arter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l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ygmomanometer with cu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lp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scultation method - Korotkov's tones (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Windows User</cp:lastModifiedBy>
  <dcterms:modified xsi:type="dcterms:W3CDTF">2023-10-20T08:52:42Z</dcterms:modified>
  <cp:revision>59</cp:revision>
  <dc:subject/>
  <dc:title>Slide 1</dc:title>
</cp:coreProperties>
</file>